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8BE-3BFA-464B-8077-414AC045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72A-D52E-4165-82CD-E7CB97F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CC9-D1F2-4A86-B75A-5B2B7B6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5FB-2075-4704-821D-02080A8B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053-308C-4757-ABE8-5EA39F6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4E7-EAF7-41DD-B540-37B1D2F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350-7716-42CF-B32E-3F03C47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C7F-4646-4947-9DB8-2593374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B28-5438-4009-86CE-0F05875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CB7-5E38-49F5-A112-93656AA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1CC-82B1-465B-B270-E1374DB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869-1855-4948-A9E8-5BEBD40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869-28A5-4808-9C35-3F3C0EA023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Right Triangles and other polyg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TH 60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3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ides 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191120" cy="303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2004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e Pythagorean theor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3408480"/>
            <a:ext cx="4724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right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special right triang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-45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60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45-45-90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legs are eq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at makes this what kind of triangle, if you are categorizing by si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egs each were one inch, how long would the hypotenuse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ypotenuse is equal to the leg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76552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715000" y="2751120"/>
          <a:ext cx="2743200" cy="269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51120"/>
                    <a:ext cx="27432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0-60-90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se together makes an equilateral triangle.  (what does that mean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ship between the part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utting triangles togeth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ese o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581" t="0" r="1183" b="12282"/>
          <a:stretch/>
        </p:blipFill>
        <p:spPr>
          <a:xfrm>
            <a:off x="2135160" y="251460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1182" r="12287" b="10600"/>
          <a:stretch/>
        </p:blipFill>
        <p:spPr>
          <a:xfrm>
            <a:off x="380880" y="251460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1183" t="12282" r="10581" b="0"/>
          <a:stretch/>
        </p:blipFill>
        <p:spPr>
          <a:xfrm>
            <a:off x="380880" y="426708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12287" t="10600" r="0" b="1182"/>
          <a:stretch/>
        </p:blipFill>
        <p:spPr>
          <a:xfrm>
            <a:off x="2133720" y="4267080"/>
            <a:ext cx="1753920" cy="175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7151" t="0" r="0" b="17864"/>
          <a:stretch/>
        </p:blipFill>
        <p:spPr>
          <a:xfrm>
            <a:off x="5943600" y="2133720"/>
            <a:ext cx="29718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rcRect l="0" t="17864" r="7151" b="0"/>
          <a:stretch/>
        </p:blipFill>
        <p:spPr>
          <a:xfrm>
            <a:off x="5943600" y="3886200"/>
            <a:ext cx="2971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Your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hapes can you create using triang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make a squ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ctang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nt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ex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el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what you know about triangles to find the area of your new sh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37:27Z</dcterms:created>
  <dc:creator>nuhs</dc:creator>
  <dc:description/>
  <dc:language>en-US</dc:language>
  <cp:lastModifiedBy>nuhs</cp:lastModifiedBy>
  <dcterms:modified xsi:type="dcterms:W3CDTF">2007-09-13T15:53:34Z</dcterms:modified>
  <cp:revision>4</cp:revision>
  <dc:subject/>
  <dc:title>Special Right Triangles and other polygons</dc:title>
</cp:coreProperties>
</file>